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25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3C48-CD12-4BA5-A4DB-EF89FE97F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16C-73D5-46B0-BC43-951556AD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2717-2A85-4978-BE59-84B3D19E7994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34E-24E3-48D5-9BEB-316CFD418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4A5F-CB1E-4995-86A3-00C59A836A66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A48-5871-42B3-BDCA-190C656A10D0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4597-45E7-44B6-A71E-5A3D827C1788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59E5-0F06-4FB2-AC4D-D1642E72F154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980D-6630-4E2E-AEDF-F3FA50CB2112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7B52-9E34-47D5-80AA-4D3105C6AC52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56E5-2984-4DE6-BD0D-3D3FFBBEB26F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82D4-C4F3-4428-941D-5E5558C5307B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3FD0-7EBF-4960-A1D0-639B5C5CFC09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194C-56EB-4386-920A-D8FB9D8E197A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BDA1-D7B7-493A-B123-B5D2EB6B9717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56A6-7276-4FE2-BDE3-952249B84072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729-11CE-4564-A9B1-294D48A10BAD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530-AFA7-47E5-A05C-5D3421FBDCD5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B36-A158-4921-9097-9C393E566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9C2D-A70F-48D5-BA8A-3D3286B52AAB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7B8-36DA-41EB-ABD3-59E7D27B0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A6A7-21D2-41A1-9DA5-D586F757FCA2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E644-C837-4F30-8BCC-E912A18C4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D512-59A2-43F6-A658-8809CD76F008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D45-66BA-415A-94DD-A183E1769088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E0C9-7BBC-4612-A867-82FAD69DF944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C7BD-2427-47E4-82CC-B50D8A681222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3E5E-1B79-47C6-B691-390C82E3CD3E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E0AE-B55F-4C25-8DF8-09F7433AC15A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1290-485C-4F73-AC55-A70E4CD0E857}" type="slidenum">
              <a:rPr b="0" lang="en-US" sz="1200" spc="-1" strike="noStrike">
                <a:solidFill>
                  <a:srgbClr val="000000"/>
                </a:solidFill>
                <a:latin typeface="DIN-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04720" y="4171680"/>
            <a:ext cx="584208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12839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7086600" y="6477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w Cen MT Condensed"/>
              </a:rPr>
              <a:t>Slide Content © 2009 Englobe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76320" y="6448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w Cen MT Condensed"/>
              </a:rPr>
              <a:t>Guest Lecture – Rochester Institute of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380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eating Games for Global Players: Understanding the Geocultural Dimension of Game Con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352320"/>
            <a:ext cx="7391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m Ed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f89"/>
                </a:solidFill>
                <a:latin typeface="Calibri"/>
              </a:rPr>
              <a:t>Principal Consultant &amp; Founder, Englobe In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f89"/>
                </a:solidFill>
                <a:latin typeface="Calibri"/>
              </a:rPr>
              <a:t>Chair &amp; Founder, IGDA Game Localization S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f89"/>
                </a:solidFill>
                <a:latin typeface="Calibri"/>
              </a:rPr>
              <a:t>tomedw@englob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f89"/>
                </a:solidFill>
                <a:latin typeface="Calibri"/>
              </a:rPr>
              <a:t>http://www.englobe.c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8 May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Game Industry’s Future i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8360" y="8377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icewaterhouseCooper’s projections for 2007-2011 indicate a global gaming market worth $48.9B by 2011 (up from $37.5B in 2007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PwC-2011.jpg"/>
          <p:cNvPicPr/>
          <p:nvPr/>
        </p:nvPicPr>
        <p:blipFill>
          <a:blip r:embed="rId1"/>
          <a:stretch/>
        </p:blipFill>
        <p:spPr>
          <a:xfrm>
            <a:off x="4562640" y="1752480"/>
            <a:ext cx="3666960" cy="2467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3" name="Rectangle 2"/>
          <p:cNvSpPr/>
          <p:nvPr/>
        </p:nvSpPr>
        <p:spPr>
          <a:xfrm>
            <a:off x="762120" y="2057400"/>
            <a:ext cx="3809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.S. sales will lag behind the world during the next 5 years, averaging 6.7% annual growth while Asia and EMEA will average 10% or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62120" y="426708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creasing revenue requires increasing global exposure, which means game content will be exposed to many more cultures and lo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ttom 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ealing to a more global audience will be critical, which implies geocultural consid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 flipH="1">
            <a:off x="3852720" y="3044880"/>
            <a:ext cx="5040" cy="2878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927000"/>
            <a:ext cx="8153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ultural characteristics are obvious above the surface, but many critical aspects cannot be s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ep-level geocultural qualities greatly affect local customer perceptions; reactions to content issues in games typically occur in relation to one or more of the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e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p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roup 5" descr=""/>
          <p:cNvPicPr/>
          <p:nvPr/>
        </p:nvPicPr>
        <p:blipFill>
          <a:blip r:embed="rId1"/>
          <a:stretch/>
        </p:blipFill>
        <p:spPr>
          <a:xfrm>
            <a:off x="1676520" y="4821120"/>
            <a:ext cx="4479840" cy="824040"/>
          </a:xfrm>
          <a:prstGeom prst="rect">
            <a:avLst/>
          </a:prstGeom>
          <a:ln w="0">
            <a:noFill/>
          </a:ln>
        </p:spPr>
      </p:pic>
      <p:sp>
        <p:nvSpPr>
          <p:cNvPr id="88" name="Oval 8"/>
          <p:cNvSpPr/>
          <p:nvPr/>
        </p:nvSpPr>
        <p:spPr>
          <a:xfrm>
            <a:off x="3686040" y="5896080"/>
            <a:ext cx="352440" cy="35244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966"/>
              </a:gs>
            </a:gsLst>
            <a:lin ang="2700000"/>
          </a:gra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933560" y="58896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172200" y="3146400"/>
            <a:ext cx="2157480" cy="27939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1" descr=""/>
          <p:cNvPicPr/>
          <p:nvPr/>
        </p:nvPicPr>
        <p:blipFill>
          <a:blip r:embed="rId3"/>
          <a:stretch/>
        </p:blipFill>
        <p:spPr>
          <a:xfrm>
            <a:off x="1676520" y="4438800"/>
            <a:ext cx="447984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Group 14" descr=""/>
          <p:cNvPicPr/>
          <p:nvPr/>
        </p:nvPicPr>
        <p:blipFill>
          <a:blip r:embed="rId4"/>
          <a:stretch/>
        </p:blipFill>
        <p:spPr>
          <a:xfrm>
            <a:off x="1676520" y="4059360"/>
            <a:ext cx="4479840" cy="823680"/>
          </a:xfrm>
          <a:prstGeom prst="rect">
            <a:avLst/>
          </a:prstGeom>
          <a:ln w="0">
            <a:noFill/>
          </a:ln>
        </p:spPr>
      </p:pic>
      <p:pic>
        <p:nvPicPr>
          <p:cNvPr id="93" name="Group 17" descr=""/>
          <p:cNvPicPr/>
          <p:nvPr/>
        </p:nvPicPr>
        <p:blipFill>
          <a:blip r:embed="rId5"/>
          <a:stretch/>
        </p:blipFill>
        <p:spPr>
          <a:xfrm>
            <a:off x="1676520" y="3676680"/>
            <a:ext cx="4479840" cy="822240"/>
          </a:xfrm>
          <a:prstGeom prst="rect">
            <a:avLst/>
          </a:prstGeom>
          <a:ln w="0">
            <a:noFill/>
          </a:ln>
        </p:spPr>
      </p:pic>
      <p:pic>
        <p:nvPicPr>
          <p:cNvPr id="94" name="Group 20" descr=""/>
          <p:cNvPicPr/>
          <p:nvPr/>
        </p:nvPicPr>
        <p:blipFill>
          <a:blip r:embed="rId6"/>
          <a:stretch/>
        </p:blipFill>
        <p:spPr>
          <a:xfrm>
            <a:off x="1676520" y="3297240"/>
            <a:ext cx="4479840" cy="824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3"/>
          <p:cNvSpPr/>
          <p:nvPr/>
        </p:nvSpPr>
        <p:spPr>
          <a:xfrm>
            <a:off x="2438280" y="27874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 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3657600" y="2765520"/>
            <a:ext cx="380880" cy="4572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3852720" y="3309840"/>
            <a:ext cx="5040" cy="344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ceberg Model of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: Why are Geocultural Issues Important?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mary 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rotect the game developer’s (and industry’s) image and revenue stream, as well as allow local customers to simply enjoy a “fun” ga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o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ize/eliminate local market backlash ev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gamer loyalty and trust in your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d revenue potential by adapting the appeal of your game content across cultural bounda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ch issues that are NOT covered by review boards, such as the ESRB, PEGI, CERO and so 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view yourself, or else expect potential sanctions by government(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Approach Geocultural Issues in Gam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040" y="13712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ic Methodolog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libri"/>
              </a:rPr>
              <a:t>Step 1: Identify the Most Obvious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libri"/>
              </a:rPr>
              <a:t>Step 2: Triage to Determine Seve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libri"/>
              </a:rPr>
              <a:t>Step 3: Develop Solutions and Resol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eocultural review doesn’t happen overnight, it takes time and experi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chance of success begins with 2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game designer, developer and artist needs to be mindful of the geocultural dimension of their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2160" indent="-272880">
              <a:spcBef>
                <a:spcPts val="499"/>
              </a:spcBef>
              <a:buClr>
                <a:srgbClr val="184f8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cultural review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integrated into game development lifecycles and must have an own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Find Geocultural Issues in Games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ep 1: Identify the Most Obvious Issu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amine by </a:t>
            </a:r>
            <a:r>
              <a:rPr b="1" lang="en-US" sz="2000" spc="-1" strike="noStrike">
                <a:solidFill>
                  <a:srgbClr val="184f89"/>
                </a:solidFill>
                <a:latin typeface="Calibri"/>
              </a:rPr>
              <a:t>Them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; most sensitive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Religious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 direct or indirect use of a real-world religion or belief syst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ctional belief systems that mimic real-world ele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 of religious icons, symbols, imagery and archite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thnic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ing real-world ethnic/gender stereotyp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phasizing cultural issues and conflicts on the basis of r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Historical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depiction or modification of real historical events and peo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trapolating various futures involving current cultures/govern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Cultural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 concepts, allegories and ‘feelings’ derived from real-world cul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84f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ltural stereotypes and extrapol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457200" y="1314360"/>
            <a:ext cx="777240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 which often generates geocultural issues (i.e., just abou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player will see, hear or rea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 Desig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earance and back story, emulation of real people, rac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vironment Desig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real-world locales and landmarks, or mimicry of such loc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x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screen dialog, UI elements, game documentation &amp; manuals, real or fictional geographic and character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ag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s, flags, banners, icons, symbols, photos, cin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udio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oice, music, lyrics, sound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ckag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x art, box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anding and mark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nd names, advertising campaigns, promotional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ine by </a:t>
            </a:r>
            <a:r>
              <a:rPr b="1" lang="en-US" sz="3200" spc="-1" strike="noStrike">
                <a:solidFill>
                  <a:srgbClr val="191966"/>
                </a:solidFill>
                <a:latin typeface="Calibri"/>
              </a:rPr>
              <a:t>Content Typ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ine by </a:t>
            </a:r>
            <a:r>
              <a:rPr b="1" lang="en-US" sz="3200" spc="-1" strike="noStrike">
                <a:solidFill>
                  <a:srgbClr val="191966"/>
                </a:solidFill>
                <a:latin typeface="Calibri"/>
              </a:rPr>
              <a:t>Local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irtually any market can hold potential risk, b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following have proven to be more challeng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rth America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ited States (sex, extreme viol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ia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hina, Korea (south), Japan, Singapore, I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urop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ited Kingdom, France, Italy, Germany, S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ddle Eas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irtually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i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region, but particularly Saudi Arabia, Egypt, U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Easy Identification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ng_geo2.jpg"/>
          <p:cNvPicPr/>
          <p:nvPr/>
        </p:nvPicPr>
        <p:blipFill>
          <a:blip r:embed="rId1"/>
          <a:stretch/>
        </p:blipFill>
        <p:spPr>
          <a:xfrm>
            <a:off x="1905120" y="1143000"/>
            <a:ext cx="5067360" cy="3378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1" name="Rectangle 3"/>
          <p:cNvSpPr/>
          <p:nvPr/>
        </p:nvSpPr>
        <p:spPr>
          <a:xfrm>
            <a:off x="1143000" y="4648320"/>
            <a:ext cx="69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Calibri"/>
              </a:rPr>
              <a:t>What’s wrong with this pic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the Taiwan flag i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inja Gaiden’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I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the sensitive name “ROC” for Tai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“Country” to indicate th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Difficult Identific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33520" y="1143000"/>
            <a:ext cx="80769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uch-anticipat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llout 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not released in October 2008 to India due to “cultural sensitivit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ssue centered on the appearance of deformed, 2-headed Brahman cattle (called “Brahmin” in the game) that can be killed and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hman cattle are sacred to the Hindu religion and laws in India protect the animals from h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Fallout3-cancelled.bmp"/>
          <p:cNvPicPr/>
          <p:nvPr/>
        </p:nvPicPr>
        <p:blipFill>
          <a:blip r:embed="rId1"/>
          <a:stretch/>
        </p:blipFill>
        <p:spPr>
          <a:xfrm>
            <a:off x="5029200" y="3581280"/>
            <a:ext cx="3809880" cy="2343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5" name="Picture 2" descr="http://news.filefront.com/wp-content/uploads/2007/11/fallouttiscali3.jpg"/>
          <p:cNvPicPr/>
          <p:nvPr/>
        </p:nvPicPr>
        <p:blipFill>
          <a:blip r:embed="rId2"/>
          <a:stretch/>
        </p:blipFill>
        <p:spPr>
          <a:xfrm>
            <a:off x="609480" y="3581280"/>
            <a:ext cx="3915000" cy="2332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772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isions regarding potentially sensitive content must have a rationale based on informed decision-mak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eparat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easonable Risk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vert Off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Reasonable Ris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tent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 sensitive but is a reasonable risk given the local market conditions and the context within the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Overt Offenses</a:t>
            </a:r>
            <a:r>
              <a:rPr b="0" lang="en-US" sz="2400" spc="-1" strike="noStrike">
                <a:solidFill>
                  <a:srgbClr val="222268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that will always be a problem and should be avoided, regardless of context in the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on’t guess – do the homework!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 external subject-matter expertise (if you need it) and/or input from local markets (if that’s an opti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Find Geocultural Issues in Games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Step 2: Triage to Determine Sev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762120" y="533520"/>
            <a:ext cx="633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144792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the challenges of Geopolitical and Cultural (i.e., Geocultural) Risks in Game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’s important for games to address such ris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can review your own content for potential geocultural iss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w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’s appropriate to check for content ris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a Reasonable Risk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1104840"/>
            <a:ext cx="5715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November 2007, Singapore banned the g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ss Effec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presence of apparent “lesbian intimacy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n was removed a few days later and the game allowed to release with an “M18” r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ssue has h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zero effec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ass Effect’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the controversy spilled to U.S. news outlets (like Fox) who wanted to make it an iss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ttp://news.filefront.com/wp-content/uploads/2007/08/masseffect_box_cover_01_532x748.jpg"/>
          <p:cNvPicPr/>
          <p:nvPr/>
        </p:nvPicPr>
        <p:blipFill>
          <a:blip r:embed="rId1"/>
          <a:stretch/>
        </p:blipFill>
        <p:spPr>
          <a:xfrm>
            <a:off x="6172200" y="1257480"/>
            <a:ext cx="2590920" cy="364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1" name="Picture 10" descr="FoxNews-MassEffect.jpg"/>
          <p:cNvPicPr/>
          <p:nvPr/>
        </p:nvPicPr>
        <p:blipFill>
          <a:blip r:embed="rId2"/>
          <a:stretch/>
        </p:blipFill>
        <p:spPr>
          <a:xfrm>
            <a:off x="2209680" y="4229280"/>
            <a:ext cx="2819520" cy="2019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762120" y="1371600"/>
            <a:ext cx="4800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2004,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host Recon 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banned in South Korea because the story featured a rogue North Korean general who was trying to consolidate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orean Media Rating Board (KMRB) considered the content to be too politically sensitive and they banned the g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Korea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piction of North and South Korea at war, or any portrayal of North Korea as a villain is considered to be very sensi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http://www.snorksstore.com/covers/xbox360_ghost_recon_2.jpg"/>
          <p:cNvPicPr/>
          <p:nvPr/>
        </p:nvPicPr>
        <p:blipFill>
          <a:blip r:embed="rId1"/>
          <a:stretch/>
        </p:blipFill>
        <p:spPr>
          <a:xfrm>
            <a:off x="6019920" y="1523880"/>
            <a:ext cx="2512800" cy="3581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an Overt Offen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1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the Step 2 triage, develop solutions that address the most problematic issues/loc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your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original int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best as possible, but be responsive to local sensitiv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Goal: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e surgic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make only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st minimal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he least amount of cont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rr on the side of cau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uncertain about an iss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ild your defens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ultimately choose to include known, sensitive content then have a solid rationale for its pres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to Find Geocultural Issues in Games</a:t>
            </a: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Step 3: Develop Solutions and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f Resolu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286000" cy="3540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9" name=""/>
          <p:cNvSpPr txBox="1"/>
          <p:nvPr/>
        </p:nvSpPr>
        <p:spPr>
          <a:xfrm>
            <a:off x="609480" y="10663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racter name 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alo 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onsidered potentially sensitive to a specific cultural group and reg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 of context, the name ‘Dervish’, a title from Sufi Islam, wasn’t too sensi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context, ‘Dervish’ set up a potentially offensive allegory related to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ot – U.S. (Master Chief) versus Islam (Prophet of Truth &amp; the Covena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sue unfolded shortly after 9/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nd, the character’s name was changed to 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bi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buClr>
                <a:srgbClr val="184f8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al Schedule for Geocultural Revie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6"/>
          <p:cNvSpPr/>
          <p:nvPr/>
        </p:nvSpPr>
        <p:spPr>
          <a:xfrm flipH="1" flipV="1">
            <a:off x="1142640" y="5467320"/>
            <a:ext cx="7467480" cy="144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8"/>
          <p:cNvSpPr/>
          <p:nvPr/>
        </p:nvSpPr>
        <p:spPr>
          <a:xfrm flipV="1">
            <a:off x="1141560" y="1125000"/>
            <a:ext cx="2880" cy="434340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895480" y="56959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4d"/>
                </a:solidFill>
                <a:latin typeface="Calibri"/>
              </a:rPr>
              <a:t>Phase of Gam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 rot="16200000">
            <a:off x="-757440" y="311040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4d"/>
                </a:solidFill>
                <a:latin typeface="Calibri"/>
              </a:rPr>
              <a:t>Content Type to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1523880" y="5467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4f89"/>
                </a:solidFill>
                <a:latin typeface="Calibri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733920" y="54673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4f89"/>
                </a:solidFill>
                <a:latin typeface="Calibri"/>
              </a:rPr>
              <a:t>COR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629400" y="5467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4f89"/>
                </a:solidFill>
                <a:latin typeface="Calibri"/>
              </a:rPr>
              <a:t>LAT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16"/>
          <p:cNvSpPr/>
          <p:nvPr/>
        </p:nvSpPr>
        <p:spPr>
          <a:xfrm flipV="1">
            <a:off x="3048120" y="1047240"/>
            <a:ext cx="1440" cy="4343400"/>
          </a:xfrm>
          <a:prstGeom prst="line">
            <a:avLst/>
          </a:prstGeom>
          <a:ln cap="rnd" w="1584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17"/>
          <p:cNvSpPr/>
          <p:nvPr/>
        </p:nvSpPr>
        <p:spPr>
          <a:xfrm flipV="1">
            <a:off x="6629400" y="1123560"/>
            <a:ext cx="1440" cy="4343400"/>
          </a:xfrm>
          <a:prstGeom prst="line">
            <a:avLst/>
          </a:prstGeom>
          <a:ln cap="rnd" w="15840">
            <a:solidFill>
              <a:srgbClr val="0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1295280" y="1200600"/>
            <a:ext cx="1752840" cy="337320"/>
          </a:xfrm>
          <a:prstGeom prst="rect">
            <a:avLst/>
          </a:prstGeom>
          <a:solidFill>
            <a:srgbClr val="d6d6f5"/>
          </a:solidFill>
          <a:ln w="15840">
            <a:solidFill>
              <a:srgbClr val="19196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neral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1828800" y="2115000"/>
            <a:ext cx="2743200" cy="337320"/>
          </a:xfrm>
          <a:prstGeom prst="rect">
            <a:avLst/>
          </a:prstGeom>
          <a:solidFill>
            <a:srgbClr val="cccccc"/>
          </a:solidFill>
          <a:ln w="158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racter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1828800" y="2572200"/>
            <a:ext cx="3505320" cy="337320"/>
          </a:xfrm>
          <a:prstGeom prst="rect">
            <a:avLst/>
          </a:prstGeom>
          <a:solidFill>
            <a:srgbClr val="cceedf"/>
          </a:solidFill>
          <a:ln w="15840">
            <a:solidFill>
              <a:srgbClr val="32946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vironment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3048120" y="3029400"/>
            <a:ext cx="3581280" cy="337320"/>
          </a:xfrm>
          <a:prstGeom prst="rect">
            <a:avLst/>
          </a:prstGeom>
          <a:solidFill>
            <a:srgbClr val="85ffe0"/>
          </a:solidFill>
          <a:ln w="15840">
            <a:solidFill>
              <a:srgbClr val="0066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udio (Effects, 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6629400" y="1123920"/>
            <a:ext cx="1066680" cy="4343400"/>
          </a:xfrm>
          <a:prstGeom prst="rect">
            <a:avLst/>
          </a:prstGeom>
          <a:solidFill>
            <a:srgbClr val="c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Calibri"/>
              </a:rPr>
              <a:t>Final Checks for All Identified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295280" y="1657800"/>
            <a:ext cx="2743200" cy="337320"/>
          </a:xfrm>
          <a:prstGeom prst="rect">
            <a:avLst/>
          </a:prstGeom>
          <a:solidFill>
            <a:srgbClr val="ffc000"/>
          </a:solidFill>
          <a:ln w="15840">
            <a:solidFill>
              <a:srgbClr val="99663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ack Story &amp;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3048120" y="3486600"/>
            <a:ext cx="3581280" cy="337320"/>
          </a:xfrm>
          <a:prstGeom prst="rect">
            <a:avLst/>
          </a:prstGeom>
          <a:solidFill>
            <a:srgbClr val="85ffe0"/>
          </a:solidFill>
          <a:ln w="15840">
            <a:solidFill>
              <a:srgbClr val="0066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-game Text (UI, Dialog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29"/>
          <p:cNvSpPr/>
          <p:nvPr/>
        </p:nvSpPr>
        <p:spPr>
          <a:xfrm>
            <a:off x="3048120" y="3943800"/>
            <a:ext cx="3581280" cy="337320"/>
          </a:xfrm>
          <a:prstGeom prst="rect">
            <a:avLst/>
          </a:prstGeom>
          <a:solidFill>
            <a:srgbClr val="85ffe0"/>
          </a:solidFill>
          <a:ln w="15840">
            <a:solidFill>
              <a:srgbClr val="0066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ymbols, Icons, Flags,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30"/>
          <p:cNvSpPr/>
          <p:nvPr/>
        </p:nvSpPr>
        <p:spPr>
          <a:xfrm>
            <a:off x="5334120" y="4401000"/>
            <a:ext cx="2361960" cy="337320"/>
          </a:xfrm>
          <a:prstGeom prst="rect">
            <a:avLst/>
          </a:prstGeom>
          <a:solidFill>
            <a:srgbClr val="ffffcc"/>
          </a:solidFill>
          <a:ln w="1584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rketing &amp; Pack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3"/>
          <p:cNvGrpSpPr/>
          <p:nvPr/>
        </p:nvGrpSpPr>
        <p:grpSpPr>
          <a:xfrm>
            <a:off x="1294920" y="3029040"/>
            <a:ext cx="1600560" cy="1858680"/>
            <a:chOff x="1294920" y="3029040"/>
            <a:chExt cx="1600560" cy="1858680"/>
          </a:xfrm>
        </p:grpSpPr>
        <p:sp>
          <p:nvSpPr>
            <p:cNvPr id="150" name="Right Brace 31"/>
            <p:cNvSpPr/>
            <p:nvPr/>
          </p:nvSpPr>
          <p:spPr>
            <a:xfrm rot="5400000">
              <a:off x="1942560" y="2381040"/>
              <a:ext cx="304560" cy="16002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7920 h 1600200"/>
                <a:gd name="textAreaBottom" fmla="*/ 159228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72"/>
                    <a:pt x="10800" y="343"/>
                  </a:cubicBezTo>
                  <a:lnTo>
                    <a:pt x="10800" y="10457"/>
                  </a:lnTo>
                  <a:cubicBezTo>
                    <a:pt x="10800" y="10629"/>
                    <a:pt x="16200" y="10800"/>
                    <a:pt x="21600" y="10800"/>
                  </a:cubicBezTo>
                  <a:cubicBezTo>
                    <a:pt x="16200" y="10800"/>
                    <a:pt x="10800" y="10972"/>
                    <a:pt x="10800" y="11143"/>
                  </a:cubicBezTo>
                  <a:lnTo>
                    <a:pt x="10800" y="21257"/>
                  </a:lnTo>
                  <a:cubicBezTo>
                    <a:pt x="10800" y="21429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Box 32"/>
            <p:cNvSpPr/>
            <p:nvPr/>
          </p:nvSpPr>
          <p:spPr>
            <a:xfrm>
              <a:off x="1295280" y="3333600"/>
              <a:ext cx="16002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Calibri"/>
                </a:rPr>
                <a:t>At least 75% of potential issues are identified in during concept phase in these content 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533520" y="1066680"/>
            <a:ext cx="807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lobal variables that currently favor geocultu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sues to arise, a specific issue is ‘unlocked’ w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‘tumblers’ fall exactly into pl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ic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ic Type of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ic Content &amp;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sy Discover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right person in the right locale view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, discovering the specific content in a unique 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aking action on the basis of their perception abou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y’s intent. 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his dynamic is challenging to predi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lock-diagram.JPG"/>
          <p:cNvPicPr/>
          <p:nvPr/>
        </p:nvPicPr>
        <p:blipFill>
          <a:blip r:embed="rId1"/>
          <a:stretch/>
        </p:blipFill>
        <p:spPr>
          <a:xfrm>
            <a:off x="5830920" y="2133720"/>
            <a:ext cx="2932200" cy="20192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2"/>
          <p:cNvSpPr/>
          <p:nvPr/>
        </p:nvSpPr>
        <p:spPr>
          <a:xfrm>
            <a:off x="380880" y="380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locking Geocultural Sensi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4572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ower of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 terms of geocultural risk, the differences between online and boxed content are minimal; all the fundamental risks apply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methods of deliv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owever, online content has the added strength of numbers and community activism – particularly if a geocultural is found.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munity is online’s double-edged swor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irst impressions are ke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get the geocultural aspects right or else the community may be relentless against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geocultural issues result from unintentional actions, but most offending issues are perceived to b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ompletely intention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he local consumer/gover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www.kotaku.com/images/2006/07/chinesejapanhinomaru.jpg"/>
          <p:cNvPicPr/>
          <p:nvPr/>
        </p:nvPicPr>
        <p:blipFill>
          <a:blip r:embed="rId1"/>
          <a:stretch/>
        </p:blipFill>
        <p:spPr>
          <a:xfrm>
            <a:off x="3924360" y="1457280"/>
            <a:ext cx="4762440" cy="357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58" name="Picture 4" descr="http://www.kotaku.com/images/2006/07/chinesejapanprotest.jpg"/>
          <p:cNvPicPr/>
          <p:nvPr/>
        </p:nvPicPr>
        <p:blipFill>
          <a:blip r:embed="rId2"/>
          <a:stretch/>
        </p:blipFill>
        <p:spPr>
          <a:xfrm>
            <a:off x="3924360" y="1447920"/>
            <a:ext cx="4762440" cy="3619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59" name="Picture 6" descr="http://www.kotaku.com/images/2006/07/chinesesunpainting.jpg"/>
          <p:cNvPicPr/>
          <p:nvPr/>
        </p:nvPicPr>
        <p:blipFill>
          <a:blip r:embed="rId3"/>
          <a:stretch/>
        </p:blipFill>
        <p:spPr>
          <a:xfrm>
            <a:off x="3924360" y="1447920"/>
            <a:ext cx="4762440" cy="3590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0" name="TextBox 6"/>
          <p:cNvSpPr/>
          <p:nvPr/>
        </p:nvSpPr>
        <p:spPr>
          <a:xfrm>
            <a:off x="419040" y="1143000"/>
            <a:ext cx="3353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July 2006, a problem arose in the Chinese MM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antasy of the Journey West;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na’s most popular online g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all painting in the city government office had the appearance of the Japanese rising s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10K players gathered in the office to protest (but the company replied “No comment”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Iron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painting was inspired by a Chinese work called “Sunrise in the Eas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ower of Community – An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410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osing Remark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520" y="127440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the game you want to create, but don’t forget th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lobal, multicultural audie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will experience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choose to include known, sensitive content then be prepared with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ensible ration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articularly in an online release where you can’t predict who will be expo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not predic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sue, particularly in an online context; if you miss something and receive local backlash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n’t pan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 React, but avoid a knee-jerk re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to managing geocultural content is to respond respectfully and proactively to th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local market’s percept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your intentions (i.e. view the issue from their perspectiv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184f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143000" y="2057400"/>
            <a:ext cx="5410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3200"/>
            </a:br>
            <a:br>
              <a:rPr sz="11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s or 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90520" y="3886200"/>
            <a:ext cx="69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medw@englob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int #1: The Basic Goal of a Game is to be “Fun”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2438280"/>
          <a:ext cx="7162920" cy="3251160"/>
        </p:xfrm>
        <a:graphic>
          <a:graphicData uri="http://schemas.openxmlformats.org/drawingml/2006/table">
            <a:tbl>
              <a:tblPr/>
              <a:tblGrid>
                <a:gridCol w="3583080"/>
                <a:gridCol w="357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Offen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66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ntertains &amp; Eng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Frustrates &amp; Invokes An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ositive Diver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Negative Dis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Builds 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Divides 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ducates &amp; Enlight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Stereotypes &amp; Overt Igno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Quality yields Revenue &amp; Tr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alibri"/>
                        </a:rPr>
                        <a:t>Errors yield Sanctions &amp; Mistr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56"/>
          <p:cNvSpPr/>
          <p:nvPr/>
        </p:nvSpPr>
        <p:spPr>
          <a:xfrm>
            <a:off x="990720" y="1066680"/>
            <a:ext cx="74674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games are designed to be “fun” for their audience, not to be a negative or “offensive” experi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these game traits that contrast a “fun” experience from an “offensive” 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int #2:  Two General Types of Game Audience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7720" y="12949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Intended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: Game players and enthusiasts who generally understand the relationship between a game’s content and its con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Calibri"/>
              </a:rPr>
              <a:t>Unintended</a:t>
            </a:r>
            <a:r>
              <a:rPr b="0" lang="en-US" sz="2400" spc="-1" strike="noStrike">
                <a:solidFill>
                  <a:srgbClr val="993300"/>
                </a:solidFill>
                <a:latin typeface="Calibri"/>
              </a:rPr>
              <a:t>: People who don’t play games and/or have little exposure to content in the game con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993300"/>
                </a:solidFill>
                <a:latin typeface="Calibri"/>
              </a:rPr>
              <a:t>Unintend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is a larger concern for games as they are more prone to label game content as problematic or “offensive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game is perceived as “offensive”, this can increase popularity among the </a:t>
            </a: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Inten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udience while strongly isolating the </a:t>
            </a:r>
            <a:r>
              <a:rPr b="0" i="1" lang="en-US" sz="2400" spc="-1" strike="noStrike">
                <a:solidFill>
                  <a:srgbClr val="993300"/>
                </a:solidFill>
                <a:latin typeface="Calibri"/>
              </a:rPr>
              <a:t>Uninten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6520" y="1628640"/>
            <a:ext cx="7989840" cy="7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dio containing chanted verses from the Islamic Qur’an was mistakenly included in the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80880" y="10666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Geocultural Issues Important to Ga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eligious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ke 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Kakuto Choj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Kakuto Chojin box"/>
          <p:cNvPicPr/>
          <p:nvPr/>
        </p:nvPicPr>
        <p:blipFill>
          <a:blip r:embed="rId1"/>
          <a:stretch/>
        </p:blipFill>
        <p:spPr>
          <a:xfrm>
            <a:off x="6172200" y="2209680"/>
            <a:ext cx="2381400" cy="3368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" name="Rectangle 2"/>
          <p:cNvSpPr/>
          <p:nvPr/>
        </p:nvSpPr>
        <p:spPr>
          <a:xfrm>
            <a:off x="457200" y="2286000"/>
            <a:ext cx="5486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me reached the Middle East markets unintenti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governments and consumers vocally protested after discovering the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ame crossed over the line of acceptability and eventually requir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lobal re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event had parallels to similar events (e.g., the Danish political cartoons of Mohammed in early 200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ittle Big Planet (2008)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33520" y="1371600"/>
            <a:ext cx="4952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lease of this game was delayed in October 2008 due to a song in the soundtrack that included lyrics taken directly from the Islamic Qur’an (the song was Toumani Diabate's  'Tapha Niang‘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ny proactively recalled the game before release to fix the problem, at a significant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rs and pundits criticized Sony for the action, but Sony realized the greater long-term PR cost if this content was released world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LittleBigPlanet_PEGI_WM.jpg"/>
          <p:cNvPicPr/>
          <p:nvPr/>
        </p:nvPicPr>
        <p:blipFill>
          <a:blip r:embed="rId1"/>
          <a:stretch/>
        </p:blipFill>
        <p:spPr>
          <a:xfrm>
            <a:off x="5638680" y="1676520"/>
            <a:ext cx="3051360" cy="3504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pite the historical setting of the game  (World War II), China banned the title in response to how Taiwan and Tibet are shown in the game (as independen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2514600"/>
            <a:ext cx="3657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erritorial divisions made sense for game play (similar to the board gam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na’s government was unwilling to accept the historical context of the game’s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earts of Ir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one of many titles that has had historical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eartsofIron2a.jpg"/>
          <p:cNvPicPr/>
          <p:nvPr/>
        </p:nvPicPr>
        <p:blipFill>
          <a:blip r:embed="rId1"/>
          <a:stretch/>
        </p:blipFill>
        <p:spPr>
          <a:xfrm>
            <a:off x="4419720" y="2668680"/>
            <a:ext cx="3944880" cy="3046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7" name="Oval 7"/>
          <p:cNvSpPr/>
          <p:nvPr/>
        </p:nvSpPr>
        <p:spPr>
          <a:xfrm>
            <a:off x="6676920" y="4307040"/>
            <a:ext cx="38124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8"/>
          <p:cNvSpPr/>
          <p:nvPr/>
        </p:nvSpPr>
        <p:spPr>
          <a:xfrm>
            <a:off x="4343400" y="3887640"/>
            <a:ext cx="14479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80880" y="10666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Geocultural Issues Important to Ga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istorical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ke 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earts of Ir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377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ackaging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ge of Empires I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ineffective in Korea due to the presence of the Japanese samura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91120" y="2209680"/>
            <a:ext cx="426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s were not willing to purchase a game with an offensive historical im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oE II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sion pack, a Korean figure was prominently used (see bel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Age_of_Empires_II_-_The_Age_of_Kings_Coverart.png"/>
          <p:cNvPicPr/>
          <p:nvPr/>
        </p:nvPicPr>
        <p:blipFill>
          <a:blip r:embed="rId1"/>
          <a:stretch/>
        </p:blipFill>
        <p:spPr>
          <a:xfrm>
            <a:off x="990720" y="2286000"/>
            <a:ext cx="3100320" cy="3657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3" name="Group 7" descr=""/>
          <p:cNvPicPr/>
          <p:nvPr/>
        </p:nvPicPr>
        <p:blipFill>
          <a:blip r:embed="rId2"/>
          <a:stretch/>
        </p:blipFill>
        <p:spPr>
          <a:xfrm>
            <a:off x="4614840" y="4309920"/>
            <a:ext cx="3809880" cy="1567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80880" y="10666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Geocultural Issues Important to Ga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ackaging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ke 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ge of Empires II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46200" y="1676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me designers for this title replicated the Manchester Cathedral (UK) without permi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09480" y="2362320"/>
            <a:ext cx="5029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urch of England, being against violent games, was outraged at the cathedral’s presence in the game and demanded an ap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ny said that their cathedral only bore “some resemblanc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382680">
              <a:lnSpc>
                <a:spcPct val="75000"/>
              </a:lnSpc>
              <a:spcBef>
                <a:spcPts val="601"/>
              </a:spcBef>
              <a:buClr>
                <a:srgbClr val="184f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ny and the Church held talks to reach an agreement on the use of the Manchester Cathedral (which could not be removed from the gam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anchester-cathedral.bmp"/>
          <p:cNvPicPr/>
          <p:nvPr/>
        </p:nvPicPr>
        <p:blipFill>
          <a:blip r:embed="rId1"/>
          <a:stretch/>
        </p:blipFill>
        <p:spPr>
          <a:xfrm>
            <a:off x="5867280" y="2043000"/>
            <a:ext cx="2660760" cy="1995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8" name="Picture 7" descr="R-FoM-Manchester.bmp"/>
          <p:cNvPicPr/>
          <p:nvPr/>
        </p:nvPicPr>
        <p:blipFill>
          <a:blip r:embed="rId2"/>
          <a:stretch/>
        </p:blipFill>
        <p:spPr>
          <a:xfrm>
            <a:off x="5835600" y="4191120"/>
            <a:ext cx="2698920" cy="1676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9" name="Rectangle 3"/>
          <p:cNvSpPr/>
          <p:nvPr/>
        </p:nvSpPr>
        <p:spPr>
          <a:xfrm>
            <a:off x="380880" y="1066680"/>
            <a:ext cx="8610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Geocultural Issues Important to Ga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of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eligious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esistance:Fall of Ma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5:25:01Z</dcterms:created>
  <dc:creator>Tom Edwards (tomedw@englobe.com)</dc:creator>
  <dc:description>All content is © 2008, Englobe Inc. For use by permission only.</dc:description>
  <dc:language>en-US</dc:language>
  <cp:lastModifiedBy>Tom Edwards</cp:lastModifiedBy>
  <dcterms:modified xsi:type="dcterms:W3CDTF">2009-05-07T02:03:32Z</dcterms:modified>
  <cp:revision>1337</cp:revision>
  <dc:subject/>
  <dc:title>REGARD Conference Presentation</dc:title>
</cp:coreProperties>
</file>